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28.jpeg" ContentType="image/jpeg"/>
  <Override PartName="/ppt/media/image38.wmf" ContentType="image/x-wmf"/>
  <Override PartName="/ppt/media/image11.jpeg" ContentType="image/jpeg"/>
  <Override PartName="/ppt/media/image9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7FC1-6EDE-42FE-96F7-AF936CE96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A EMPRESA SIN ESTRATEGIA VA A LA DER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46D-286F-40DB-817C-4FA6D67A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399-99EB-4B8C-B5D6-C931B67D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228-E02C-4239-BE3E-BC63D0E1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2C1-B2D8-4195-A629-154E09B4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0C0EF-FF98-4793-BB82-571124F1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1A9E9-E7A7-4355-AFD7-29D7F3AC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E2CD3-A06C-499E-A07F-8B621CCA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8D4BF-B29A-4E61-BF2D-8899618E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82D20-E7FE-4EB9-A5ED-FC578819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FCFDC-80DE-41A8-8708-A0A5D7EF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9AA98-F292-4AF1-AF13-3408695F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7DB-2106-4DAC-A686-49E07EED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BF2B6-0F58-4082-8FEE-15C78681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B0934-A9FF-4B3F-A5FD-85335D5B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62476-5A2B-4B8E-809D-106AB19C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5B39A-5025-4033-B37F-75468A57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96AD5-B752-468C-A728-5E2D6A13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9A8-1B25-4923-8F76-3ACCFA4A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01E-4F23-4200-A49A-7C01935E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9B19-F54C-4E57-A46F-F9ADE060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BC8-7430-4F8E-AA66-AFACC753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334-FCED-4E57-81D4-9A6BC052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259-05C2-418D-8C7A-D51C06B3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B29-76E2-4D02-908F-F1DB38A0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C1A3-268B-4DE9-BF61-B34D4F412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377E-C949-4D27-9C5C-7E8E1D4901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ignet.w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9.wmf"/><Relationship Id="rId11" Type="http://schemas.openxmlformats.org/officeDocument/2006/relationships/image" Target="../media/image13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amazon.com/exec/obidos/tg/stores/detail/-/books/1578511364/reader/2/102-5606582-2367309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CPM” Corporate Performance Managemen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CO. HERNÁN A. TALAVERA ARRI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ALIGNET.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5-Nov-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TC Avant Garde Gothic"/>
              </a:rPr>
              <a:t>TECNOLOGIA Y COMPETITIV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ff"/>
                </a:solidFill>
                <a:latin typeface="Tahoma"/>
              </a:rPr>
              <a:t>CPM es un término genérico que describe las metodologías, métricas, procesos y sistemas utilizados para administrar y monitorear el desempeño de los negocios en la empre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ffffff"/>
                </a:solidFill>
                <a:latin typeface="Tahoma"/>
              </a:rPr>
              <a:t>Gartner Group, Diciembre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405560" cy="4726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174200" y="15238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7640" y="194796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etod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2240" y="30481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étr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19200" y="3436920"/>
            <a:ext cx="2715480" cy="12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Ingresos por emple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ntabilidad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tención personal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Satisfacción del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… </a:t>
            </a: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y otras a requer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42040" y="1652760"/>
            <a:ext cx="175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lane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06880" y="1619280"/>
            <a:ext cx="858600" cy="1303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17600" y="1652760"/>
            <a:ext cx="865440" cy="1258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982960" y="2232000"/>
            <a:ext cx="826920" cy="1201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6720" y="2414520"/>
            <a:ext cx="816120" cy="1216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42040" y="1957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2040" y="22417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onós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42040" y="2470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Consolid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42040" y="26989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por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762120"/>
            <a:ext cx="7086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ITC Avant Garde Gothic"/>
              </a:rPr>
              <a:t>Administración del desempeño del 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94520" y="1054080"/>
            <a:ext cx="7422480" cy="4668120"/>
            <a:chOff x="794520" y="1054080"/>
            <a:chExt cx="7422480" cy="4668120"/>
          </a:xfrm>
        </p:grpSpPr>
        <p:sp>
          <p:nvSpPr>
            <p:cNvPr id="200" name=""/>
            <p:cNvSpPr/>
            <p:nvPr/>
          </p:nvSpPr>
          <p:spPr>
            <a:xfrm flipV="1">
              <a:off x="825480" y="3476160"/>
              <a:ext cx="3124080" cy="213372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06760" y="1054080"/>
              <a:ext cx="3810240" cy="266688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164760"/>
              <a:ext cx="663480" cy="87624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534800">
              <a:off x="3961080" y="2522160"/>
              <a:ext cx="366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534800">
              <a:off x="578880" y="4298760"/>
              <a:ext cx="37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Administración y monitore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666880" y="5376960"/>
            <a:ext cx="4038840" cy="681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0" y="53341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cc00"/>
                </a:solidFill>
                <a:latin typeface="Arial"/>
                <a:ea typeface="Arial"/>
              </a:rPr>
              <a:t>Plataform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Modelar y Presupuest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1219320"/>
            <a:ext cx="4267080" cy="1981080"/>
            <a:chOff x="533520" y="1219320"/>
            <a:chExt cx="4267080" cy="1981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533520" y="182880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2362320" y="1219320"/>
              <a:ext cx="2438280" cy="838080"/>
              <a:chOff x="2362320" y="1219320"/>
              <a:chExt cx="243828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362320" y="1219320"/>
                <a:ext cx="2438280" cy="838080"/>
              </a:xfrm>
              <a:prstGeom prst="cloudCallout">
                <a:avLst>
                  <a:gd name="adj1" fmla="val -48828"/>
                  <a:gd name="adj2" fmla="val 3371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1371600"/>
                <a:ext cx="1700280" cy="50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6477120" y="1371600"/>
            <a:ext cx="2133360" cy="160020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ntender y a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los cambi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ocesar la inform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eparar format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Repartir la inf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91120" y="2057400"/>
            <a:ext cx="1981080" cy="13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270080" cy="857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616120" y="4191120"/>
            <a:ext cx="1270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6934320" y="4133880"/>
            <a:ext cx="1269720" cy="95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981080" y="5486400"/>
            <a:ext cx="1295640" cy="925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1600200" y="5257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81280" y="5257800"/>
            <a:ext cx="4724640" cy="1371600"/>
          </a:xfrm>
          <a:prstGeom prst="flowChartMultidocumen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ocesar los requer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eparar la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nalizar si es posible cumplir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omunicar los result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91520" y="3430080"/>
            <a:ext cx="6477840" cy="761040"/>
            <a:chOff x="1091520" y="3430080"/>
            <a:chExt cx="6477840" cy="761040"/>
          </a:xfrm>
        </p:grpSpPr>
        <p:cxnSp>
          <p:nvCxnSpPr>
            <p:cNvPr id="224" name=""/>
            <p:cNvCxnSpPr>
              <a:stCxn id="216" idx="2"/>
              <a:endCxn id="217" idx="0"/>
            </p:cNvCxnSpPr>
            <p:nvPr/>
          </p:nvCxnSpPr>
          <p:spPr>
            <a:xfrm flipH="1">
              <a:off x="1091520" y="3430080"/>
              <a:ext cx="408996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6" idx="2"/>
              <a:endCxn id="218" idx="0"/>
            </p:cNvCxnSpPr>
            <p:nvPr/>
          </p:nvCxnSpPr>
          <p:spPr>
            <a:xfrm flipH="1">
              <a:off x="3250800" y="3430080"/>
              <a:ext cx="193104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6" idx="2"/>
            </p:cNvCxnSpPr>
            <p:nvPr/>
          </p:nvCxnSpPr>
          <p:spPr>
            <a:xfrm>
              <a:off x="5181120" y="3430440"/>
              <a:ext cx="229320" cy="75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2"/>
              <a:endCxn id="219" idx="0"/>
            </p:cNvCxnSpPr>
            <p:nvPr/>
          </p:nvCxnSpPr>
          <p:spPr>
            <a:xfrm>
              <a:off x="5181120" y="3430440"/>
              <a:ext cx="2388600" cy="704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28" name=""/>
          <p:cNvCxnSpPr>
            <a:stCxn id="221" idx="1"/>
            <a:endCxn id="211" idx="1"/>
          </p:cNvCxnSpPr>
          <p:nvPr/>
        </p:nvCxnSpPr>
        <p:spPr>
          <a:xfrm rot="10800000">
            <a:off x="532800" y="2513880"/>
            <a:ext cx="1067400" cy="3201120"/>
          </a:xfrm>
          <a:prstGeom prst="curvedConnector5">
            <a:avLst>
              <a:gd name="adj1" fmla="val 139271"/>
              <a:gd name="adj2" fmla="val 49994"/>
              <a:gd name="adj3" fmla="val 139271"/>
            </a:avLst>
          </a:prstGeom>
          <a:ln w="22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1" idx="3"/>
            <a:endCxn id="216" idx="1"/>
          </p:cNvCxnSpPr>
          <p:nvPr/>
        </p:nvCxnSpPr>
        <p:spPr>
          <a:xfrm>
            <a:off x="2437920" y="2514240"/>
            <a:ext cx="17535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4834080" y="4186080"/>
            <a:ext cx="1199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Pronósticos y Repor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523880"/>
          <a:ext cx="4572000" cy="256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4572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04920" y="4114800"/>
          <a:ext cx="4572000" cy="2438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114800"/>
                    <a:ext cx="4572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00200" y="2666880"/>
            <a:ext cx="8031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241200">
            <a:off x="2286000" y="5090760"/>
            <a:ext cx="25210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429000">
            <a:off x="2133720" y="5667480"/>
            <a:ext cx="24843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7652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a demanda y prefer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os competid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el poder adquisi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polí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276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5892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029200" y="3886200"/>
            <a:ext cx="3924360" cy="2666520"/>
            <a:chOff x="5029200" y="3886200"/>
            <a:chExt cx="3924360" cy="2666520"/>
          </a:xfrm>
        </p:grpSpPr>
        <p:sp>
          <p:nvSpPr>
            <p:cNvPr id="243" name=""/>
            <p:cNvSpPr/>
            <p:nvPr/>
          </p:nvSpPr>
          <p:spPr>
            <a:xfrm>
              <a:off x="6034320" y="3886200"/>
              <a:ext cx="1259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Repor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5029200" y="4289040"/>
              <a:ext cx="3924360" cy="22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Indicadores claves, Consolid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etorno sobre activos ne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Activos Totale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Margen Bru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Ganancia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847800"/>
            <a:ext cx="4267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tación de invent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Satisfac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ealtad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articipación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iempo de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ecio relativo a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Fideliza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¿Por qué son importantes estos procesos cruciale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Los procesos definidos anteriormente son importantes por que permiten resumir las consecuencias económicas de la empre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Que estas puedan ser medidas con facilidad a la vez de establecer un proceso de control de  gest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Permitiendo medir de forma integral los cambios que atraviesan a toda la organizació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Confusión Terminológic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228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ostos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3656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Vis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2680" y="175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4951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Plane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289680"/>
            <a:ext cx="9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K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200040"/>
            <a:ext cx="208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441864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84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6 Si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9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Planeamiento Estratégico, las Diferentes Metodologías y CP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943280" y="1343160"/>
            <a:ext cx="5257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Planeamiento Estratégico (M,V,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3"/>
            <a:endCxn id="265" idx="0"/>
          </p:cNvCxnSpPr>
          <p:nvPr/>
        </p:nvCxnSpPr>
        <p:spPr>
          <a:xfrm flipH="1">
            <a:off x="1280520" y="1603080"/>
            <a:ext cx="1432440" cy="53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4"/>
            <a:endCxn id="267" idx="0"/>
          </p:cNvCxnSpPr>
          <p:nvPr/>
        </p:nvCxnSpPr>
        <p:spPr>
          <a:xfrm flipH="1">
            <a:off x="3414240" y="1647720"/>
            <a:ext cx="1157760" cy="767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4"/>
            <a:endCxn id="269" idx="0"/>
          </p:cNvCxnSpPr>
          <p:nvPr/>
        </p:nvCxnSpPr>
        <p:spPr>
          <a:xfrm>
            <a:off x="4571640" y="1647360"/>
            <a:ext cx="910440" cy="108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3" idx="5"/>
            <a:endCxn id="271" idx="0"/>
          </p:cNvCxnSpPr>
          <p:nvPr/>
        </p:nvCxnSpPr>
        <p:spPr>
          <a:xfrm>
            <a:off x="6430680" y="1603440"/>
            <a:ext cx="1184760" cy="147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700680" y="3076560"/>
            <a:ext cx="1828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Financ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67320" y="273384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0200" y="2414520"/>
            <a:ext cx="1828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Procesos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6840" y="213372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99"/>
                </a:solidFill>
                <a:latin typeface="Tahoma"/>
              </a:rPr>
              <a:t>Aprendizaje y 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143920" y="30765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Click to see next p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2133720"/>
            <a:ext cx="92376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5919840" y="2743200"/>
            <a:ext cx="10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4067280" y="2395440"/>
            <a:ext cx="974520" cy="129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7162920" y="1143000"/>
            <a:ext cx="960480" cy="1219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928800" y="33526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8908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39092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34320" y="485784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117800" y="4556160"/>
            <a:ext cx="3377880" cy="1505880"/>
            <a:chOff x="1117800" y="4556160"/>
            <a:chExt cx="3377880" cy="150588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219320" y="4648320"/>
              <a:ext cx="3276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17800" y="4556160"/>
              <a:ext cx="26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66"/>
                  </a:solidFill>
                  <a:latin typeface="ITC Avant Garde Gothic"/>
                  <a:ea typeface="Arial"/>
                </a:rPr>
                <a:t>Apoyado - Proce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772160"/>
              <a:ext cx="1570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lane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54120" y="504504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esupues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54120" y="529920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onóst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54120" y="5502240"/>
              <a:ext cx="1570320" cy="559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Consolid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54120" y="570708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Repor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65" idx="2"/>
            <a:endCxn id="277" idx="0"/>
          </p:cNvCxnSpPr>
          <p:nvPr/>
        </p:nvCxnSpPr>
        <p:spPr>
          <a:xfrm>
            <a:off x="1280880" y="2514600"/>
            <a:ext cx="105480" cy="83880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90" name=""/>
          <p:cNvCxnSpPr>
            <a:stCxn id="267" idx="2"/>
            <a:endCxn id="278" idx="0"/>
          </p:cNvCxnSpPr>
          <p:nvPr/>
        </p:nvCxnSpPr>
        <p:spPr>
          <a:xfrm>
            <a:off x="3414600" y="2795760"/>
            <a:ext cx="472320" cy="109584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1" name=""/>
          <p:cNvCxnSpPr>
            <a:stCxn id="269" idx="2"/>
            <a:endCxn id="279" idx="0"/>
          </p:cNvCxnSpPr>
          <p:nvPr/>
        </p:nvCxnSpPr>
        <p:spPr>
          <a:xfrm>
            <a:off x="5481360" y="3114360"/>
            <a:ext cx="386280" cy="12765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2" name=""/>
          <p:cNvCxnSpPr>
            <a:stCxn id="271" idx="2"/>
            <a:endCxn id="280" idx="0"/>
          </p:cNvCxnSpPr>
          <p:nvPr/>
        </p:nvCxnSpPr>
        <p:spPr>
          <a:xfrm>
            <a:off x="7614720" y="3457440"/>
            <a:ext cx="677160" cy="14007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3" name=""/>
          <p:cNvCxnSpPr>
            <a:stCxn id="265" idx="2"/>
            <a:endCxn id="282" idx="0"/>
          </p:cNvCxnSpPr>
          <p:nvPr/>
        </p:nvCxnSpPr>
        <p:spPr>
          <a:xfrm flipH="1" rot="16200000">
            <a:off x="1001520" y="2792880"/>
            <a:ext cx="2134440" cy="1577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67" idx="2"/>
            <a:endCxn id="282" idx="0"/>
          </p:cNvCxnSpPr>
          <p:nvPr/>
        </p:nvCxnSpPr>
        <p:spPr>
          <a:xfrm rot="5400000">
            <a:off x="2208960" y="3443400"/>
            <a:ext cx="1853280" cy="5576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69" idx="2"/>
            <a:endCxn id="282" idx="0"/>
          </p:cNvCxnSpPr>
          <p:nvPr/>
        </p:nvCxnSpPr>
        <p:spPr>
          <a:xfrm rot="5400000">
            <a:off x="3402000" y="2569320"/>
            <a:ext cx="1534320" cy="2624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1" idx="2"/>
            <a:endCxn id="282" idx="0"/>
          </p:cNvCxnSpPr>
          <p:nvPr/>
        </p:nvCxnSpPr>
        <p:spPr>
          <a:xfrm rot="5400000">
            <a:off x="4640040" y="1674000"/>
            <a:ext cx="1191600" cy="475812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533520" y="6172200"/>
            <a:ext cx="8381880" cy="457200"/>
            <a:chOff x="533520" y="6172200"/>
            <a:chExt cx="8381880" cy="457200"/>
          </a:xfrm>
        </p:grpSpPr>
        <p:grpSp>
          <p:nvGrpSpPr>
            <p:cNvPr id="298" name=""/>
            <p:cNvGrpSpPr/>
            <p:nvPr/>
          </p:nvGrpSpPr>
          <p:grpSpPr>
            <a:xfrm>
              <a:off x="533520" y="6172200"/>
              <a:ext cx="8381880" cy="457200"/>
              <a:chOff x="533520" y="6172200"/>
              <a:chExt cx="8381880" cy="457200"/>
            </a:xfrm>
          </p:grpSpPr>
          <p:pic>
            <p:nvPicPr>
              <p:cNvPr id="29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3520" y="6172200"/>
                <a:ext cx="83818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1109520" y="6248520"/>
                <a:ext cx="74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800" spc="-1" strike="noStrike">
                    <a:solidFill>
                      <a:srgbClr val="ffcc00"/>
                    </a:solidFill>
                    <a:latin typeface="Tahoma"/>
                  </a:rPr>
                  <a:t>Soportado por una Plataforma Tecnológic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33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4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3341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041200">
              <a:off x="609588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5" name=""/>
          <p:cNvCxnSpPr>
            <a:stCxn id="303" idx="2"/>
            <a:endCxn id="282" idx="3"/>
          </p:cNvCxnSpPr>
          <p:nvPr/>
        </p:nvCxnSpPr>
        <p:spPr>
          <a:xfrm flipV="1" rot="16200000">
            <a:off x="4571640" y="5257080"/>
            <a:ext cx="876960" cy="1029600"/>
          </a:xfrm>
          <a:prstGeom prst="curvedConnector2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6" name=""/>
          <p:cNvCxnSpPr>
            <a:stCxn id="301" idx="0"/>
            <a:endCxn id="277" idx="2"/>
          </p:cNvCxnSpPr>
          <p:nvPr/>
        </p:nvCxnSpPr>
        <p:spPr>
          <a:xfrm flipH="1" flipV="1" rot="5400000">
            <a:off x="-126720" y="4659480"/>
            <a:ext cx="2363040" cy="662760"/>
          </a:xfrm>
          <a:prstGeom prst="bentConnector3">
            <a:avLst>
              <a:gd name="adj1" fmla="val 6887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7" name=""/>
          <p:cNvCxnSpPr>
            <a:stCxn id="278" idx="2"/>
            <a:endCxn id="303" idx="2"/>
          </p:cNvCxnSpPr>
          <p:nvPr/>
        </p:nvCxnSpPr>
        <p:spPr>
          <a:xfrm flipH="1" rot="16200000">
            <a:off x="3773160" y="4459680"/>
            <a:ext cx="1863000" cy="1639080"/>
          </a:xfrm>
          <a:prstGeom prst="bentConnector3">
            <a:avLst>
              <a:gd name="adj1" fmla="val 30421"/>
            </a:avLst>
          </a:prstGeom>
          <a:ln w="9360">
            <a:solidFill>
              <a:srgbClr val="ff0000"/>
            </a:solidFill>
            <a:prstDash val="dash"/>
            <a:miter/>
            <a:headEnd len="med" type="triangle" w="med"/>
          </a:ln>
        </p:spPr>
      </p:cxnSp>
      <p:cxnSp>
        <p:nvCxnSpPr>
          <p:cNvPr id="308" name=""/>
          <p:cNvCxnSpPr>
            <a:stCxn id="304" idx="2"/>
            <a:endCxn id="279" idx="2"/>
          </p:cNvCxnSpPr>
          <p:nvPr/>
        </p:nvCxnSpPr>
        <p:spPr>
          <a:xfrm flipV="1" rot="16200000">
            <a:off x="5384880" y="5329440"/>
            <a:ext cx="1362960" cy="399240"/>
          </a:xfrm>
          <a:prstGeom prst="bentConnector3">
            <a:avLst>
              <a:gd name="adj1" fmla="val 50805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9" name=""/>
          <p:cNvCxnSpPr>
            <a:stCxn id="302" idx="0"/>
            <a:endCxn id="280" idx="2"/>
          </p:cNvCxnSpPr>
          <p:nvPr/>
        </p:nvCxnSpPr>
        <p:spPr>
          <a:xfrm flipV="1" rot="16200000">
            <a:off x="8079120" y="5526000"/>
            <a:ext cx="85788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¿Por qué CP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7000560" y="3500280"/>
            <a:ext cx="198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 es el impa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de nuestras decision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7720" y="5516640"/>
            <a:ext cx="20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nos compa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con nuestros igual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26240" y="450864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Hacia dón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remos i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78000" y="5589720"/>
            <a:ext cx="127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tene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 hac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9840" y="4941720"/>
            <a:ext cx="166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g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objetiv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0080" y="4149720"/>
            <a:ext cx="171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organiz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recurs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720" y="3213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Dónde estam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82800" y="2133720"/>
            <a:ext cx="155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 est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hacien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respecto al pl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50800" y="126828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está </a:t>
            </a:r>
            <a:br>
              <a:rPr sz="1200"/>
            </a:b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sucedien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119700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Porqué sucedió así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0240" y="162864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es 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las alternativ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57720" y="256536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dec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podemos toma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429000" y="2819520"/>
            <a:ext cx="2514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CP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971800" y="1905120"/>
            <a:ext cx="3808800" cy="2970360"/>
            <a:chOff x="2971800" y="1905120"/>
            <a:chExt cx="3808800" cy="2970360"/>
          </a:xfrm>
        </p:grpSpPr>
        <p:sp>
          <p:nvSpPr>
            <p:cNvPr id="327" name=""/>
            <p:cNvSpPr/>
            <p:nvPr/>
          </p:nvSpPr>
          <p:spPr>
            <a:xfrm>
              <a:off x="4565160" y="4416120"/>
              <a:ext cx="766440" cy="447480"/>
            </a:xfrm>
            <a:custGeom>
              <a:avLst/>
              <a:gdLst/>
              <a:ahLst/>
              <a:rect l="l" t="t" r="r" b="b"/>
              <a:pathLst>
                <a:path w="154" h="77">
                  <a:moveTo>
                    <a:pt x="20" y="45"/>
                  </a:moveTo>
                  <a:lnTo>
                    <a:pt x="17" y="41"/>
                  </a:lnTo>
                  <a:lnTo>
                    <a:pt x="14" y="40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0" y="0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5" y="21"/>
                  </a:lnTo>
                  <a:lnTo>
                    <a:pt x="112" y="27"/>
                  </a:lnTo>
                  <a:lnTo>
                    <a:pt x="116" y="27"/>
                  </a:lnTo>
                  <a:lnTo>
                    <a:pt x="125" y="25"/>
                  </a:lnTo>
                  <a:lnTo>
                    <a:pt x="139" y="30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54"/>
                  </a:lnTo>
                  <a:lnTo>
                    <a:pt x="151" y="58"/>
                  </a:lnTo>
                  <a:lnTo>
                    <a:pt x="150" y="63"/>
                  </a:lnTo>
                  <a:lnTo>
                    <a:pt x="146" y="67"/>
                  </a:lnTo>
                  <a:lnTo>
                    <a:pt x="143" y="68"/>
                  </a:lnTo>
                  <a:lnTo>
                    <a:pt x="139" y="70"/>
                  </a:lnTo>
                  <a:lnTo>
                    <a:pt x="134" y="71"/>
                  </a:lnTo>
                  <a:lnTo>
                    <a:pt x="132" y="73"/>
                  </a:lnTo>
                  <a:lnTo>
                    <a:pt x="125" y="74"/>
                  </a:lnTo>
                  <a:lnTo>
                    <a:pt x="120" y="74"/>
                  </a:lnTo>
                  <a:lnTo>
                    <a:pt x="112" y="76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94" y="76"/>
                  </a:lnTo>
                  <a:lnTo>
                    <a:pt x="82" y="76"/>
                  </a:lnTo>
                  <a:lnTo>
                    <a:pt x="75" y="76"/>
                  </a:lnTo>
                  <a:lnTo>
                    <a:pt x="70" y="74"/>
                  </a:lnTo>
                  <a:lnTo>
                    <a:pt x="65" y="73"/>
                  </a:lnTo>
                  <a:lnTo>
                    <a:pt x="57" y="71"/>
                  </a:lnTo>
                  <a:lnTo>
                    <a:pt x="54" y="71"/>
                  </a:lnTo>
                  <a:lnTo>
                    <a:pt x="51" y="70"/>
                  </a:lnTo>
                  <a:lnTo>
                    <a:pt x="45" y="67"/>
                  </a:lnTo>
                  <a:lnTo>
                    <a:pt x="43" y="65"/>
                  </a:lnTo>
                  <a:lnTo>
                    <a:pt x="39" y="64"/>
                  </a:lnTo>
                  <a:lnTo>
                    <a:pt x="36" y="63"/>
                  </a:lnTo>
                  <a:lnTo>
                    <a:pt x="35" y="61"/>
                  </a:lnTo>
                  <a:lnTo>
                    <a:pt x="32" y="60"/>
                  </a:lnTo>
                  <a:lnTo>
                    <a:pt x="31" y="57"/>
                  </a:lnTo>
                  <a:lnTo>
                    <a:pt x="26" y="48"/>
                  </a:lnTo>
                  <a:lnTo>
                    <a:pt x="20" y="4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4800" y="4416120"/>
              <a:ext cx="761040" cy="459360"/>
            </a:xfrm>
            <a:custGeom>
              <a:avLst/>
              <a:gdLst/>
              <a:ahLst/>
              <a:rect l="l" t="t" r="r" b="b"/>
              <a:pathLst>
                <a:path w="153" h="79">
                  <a:moveTo>
                    <a:pt x="131" y="46"/>
                  </a:moveTo>
                  <a:lnTo>
                    <a:pt x="134" y="43"/>
                  </a:lnTo>
                  <a:lnTo>
                    <a:pt x="137" y="40"/>
                  </a:lnTo>
                  <a:lnTo>
                    <a:pt x="148" y="36"/>
                  </a:lnTo>
                  <a:lnTo>
                    <a:pt x="149" y="34"/>
                  </a:lnTo>
                  <a:lnTo>
                    <a:pt x="150" y="33"/>
                  </a:lnTo>
                  <a:lnTo>
                    <a:pt x="152" y="30"/>
                  </a:lnTo>
                  <a:lnTo>
                    <a:pt x="152" y="20"/>
                  </a:lnTo>
                  <a:lnTo>
                    <a:pt x="152" y="14"/>
                  </a:lnTo>
                  <a:lnTo>
                    <a:pt x="150" y="11"/>
                  </a:lnTo>
                  <a:lnTo>
                    <a:pt x="148" y="8"/>
                  </a:lnTo>
                  <a:lnTo>
                    <a:pt x="111" y="0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6" y="18"/>
                  </a:lnTo>
                  <a:lnTo>
                    <a:pt x="55" y="18"/>
                  </a:lnTo>
                  <a:lnTo>
                    <a:pt x="51" y="20"/>
                  </a:lnTo>
                  <a:lnTo>
                    <a:pt x="47" y="21"/>
                  </a:lnTo>
                  <a:lnTo>
                    <a:pt x="40" y="27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1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6" y="69"/>
                  </a:lnTo>
                  <a:lnTo>
                    <a:pt x="9" y="70"/>
                  </a:lnTo>
                  <a:lnTo>
                    <a:pt x="13" y="72"/>
                  </a:lnTo>
                  <a:lnTo>
                    <a:pt x="17" y="73"/>
                  </a:lnTo>
                  <a:lnTo>
                    <a:pt x="20" y="75"/>
                  </a:lnTo>
                  <a:lnTo>
                    <a:pt x="27" y="76"/>
                  </a:lnTo>
                  <a:lnTo>
                    <a:pt x="32" y="76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1" y="78"/>
                  </a:lnTo>
                  <a:lnTo>
                    <a:pt x="58" y="78"/>
                  </a:lnTo>
                  <a:lnTo>
                    <a:pt x="69" y="78"/>
                  </a:lnTo>
                  <a:lnTo>
                    <a:pt x="76" y="78"/>
                  </a:lnTo>
                  <a:lnTo>
                    <a:pt x="82" y="76"/>
                  </a:lnTo>
                  <a:lnTo>
                    <a:pt x="87" y="75"/>
                  </a:lnTo>
                  <a:lnTo>
                    <a:pt x="95" y="73"/>
                  </a:lnTo>
                  <a:lnTo>
                    <a:pt x="96" y="73"/>
                  </a:lnTo>
                  <a:lnTo>
                    <a:pt x="100" y="72"/>
                  </a:lnTo>
                  <a:lnTo>
                    <a:pt x="107" y="69"/>
                  </a:lnTo>
                  <a:lnTo>
                    <a:pt x="108" y="67"/>
                  </a:lnTo>
                  <a:lnTo>
                    <a:pt x="112" y="66"/>
                  </a:lnTo>
                  <a:lnTo>
                    <a:pt x="115" y="65"/>
                  </a:lnTo>
                  <a:lnTo>
                    <a:pt x="116" y="63"/>
                  </a:lnTo>
                  <a:lnTo>
                    <a:pt x="119" y="62"/>
                  </a:lnTo>
                  <a:lnTo>
                    <a:pt x="120" y="59"/>
                  </a:lnTo>
                  <a:lnTo>
                    <a:pt x="127" y="50"/>
                  </a:lnTo>
                  <a:lnTo>
                    <a:pt x="131" y="4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4360" y="4450320"/>
              <a:ext cx="771120" cy="267840"/>
            </a:xfrm>
            <a:custGeom>
              <a:avLst/>
              <a:gdLst/>
              <a:ahLst/>
              <a:rect l="l" t="t" r="r" b="b"/>
              <a:pathLst>
                <a:path w="155" h="46">
                  <a:moveTo>
                    <a:pt x="125" y="27"/>
                  </a:moveTo>
                  <a:lnTo>
                    <a:pt x="146" y="15"/>
                  </a:lnTo>
                  <a:lnTo>
                    <a:pt x="148" y="14"/>
                  </a:lnTo>
                  <a:lnTo>
                    <a:pt x="150" y="13"/>
                  </a:lnTo>
                  <a:lnTo>
                    <a:pt x="151" y="11"/>
                  </a:lnTo>
                  <a:lnTo>
                    <a:pt x="154" y="8"/>
                  </a:lnTo>
                  <a:lnTo>
                    <a:pt x="152" y="7"/>
                  </a:lnTo>
                  <a:lnTo>
                    <a:pt x="152" y="5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50" y="2"/>
                  </a:lnTo>
                  <a:lnTo>
                    <a:pt x="146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7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4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43" y="45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83" y="43"/>
                  </a:lnTo>
                  <a:lnTo>
                    <a:pt x="88" y="42"/>
                  </a:lnTo>
                  <a:lnTo>
                    <a:pt x="96" y="42"/>
                  </a:lnTo>
                  <a:lnTo>
                    <a:pt x="99" y="42"/>
                  </a:lnTo>
                  <a:lnTo>
                    <a:pt x="103" y="40"/>
                  </a:lnTo>
                  <a:lnTo>
                    <a:pt x="108" y="37"/>
                  </a:lnTo>
                  <a:lnTo>
                    <a:pt x="110" y="37"/>
                  </a:lnTo>
                  <a:lnTo>
                    <a:pt x="114" y="36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20" y="33"/>
                  </a:lnTo>
                  <a:lnTo>
                    <a:pt x="122" y="30"/>
                  </a:lnTo>
                  <a:lnTo>
                    <a:pt x="123" y="29"/>
                  </a:lnTo>
                  <a:lnTo>
                    <a:pt x="125" y="2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8320" y="4595760"/>
              <a:ext cx="55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65160" y="4450320"/>
              <a:ext cx="766440" cy="285120"/>
            </a:xfrm>
            <a:custGeom>
              <a:avLst/>
              <a:gdLst/>
              <a:ahLst/>
              <a:rect l="l" t="t" r="r" b="b"/>
              <a:pathLst>
                <a:path w="154" h="49">
                  <a:moveTo>
                    <a:pt x="28" y="29"/>
                  </a:moveTo>
                  <a:lnTo>
                    <a:pt x="6" y="18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1" y="4"/>
                  </a:lnTo>
                  <a:lnTo>
                    <a:pt x="94" y="5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8" y="11"/>
                  </a:lnTo>
                  <a:lnTo>
                    <a:pt x="115" y="12"/>
                  </a:lnTo>
                  <a:lnTo>
                    <a:pt x="125" y="14"/>
                  </a:lnTo>
                  <a:lnTo>
                    <a:pt x="136" y="15"/>
                  </a:lnTo>
                  <a:lnTo>
                    <a:pt x="142" y="18"/>
                  </a:lnTo>
                  <a:lnTo>
                    <a:pt x="147" y="21"/>
                  </a:lnTo>
                  <a:lnTo>
                    <a:pt x="150" y="25"/>
                  </a:lnTo>
                  <a:lnTo>
                    <a:pt x="153" y="31"/>
                  </a:lnTo>
                  <a:lnTo>
                    <a:pt x="151" y="36"/>
                  </a:lnTo>
                  <a:lnTo>
                    <a:pt x="150" y="38"/>
                  </a:lnTo>
                  <a:lnTo>
                    <a:pt x="149" y="40"/>
                  </a:lnTo>
                  <a:lnTo>
                    <a:pt x="149" y="39"/>
                  </a:lnTo>
                  <a:lnTo>
                    <a:pt x="145" y="39"/>
                  </a:lnTo>
                  <a:lnTo>
                    <a:pt x="143" y="40"/>
                  </a:lnTo>
                  <a:lnTo>
                    <a:pt x="139" y="42"/>
                  </a:lnTo>
                  <a:lnTo>
                    <a:pt x="136" y="43"/>
                  </a:lnTo>
                  <a:lnTo>
                    <a:pt x="132" y="45"/>
                  </a:lnTo>
                  <a:lnTo>
                    <a:pt x="128" y="45"/>
                  </a:lnTo>
                  <a:lnTo>
                    <a:pt x="122" y="46"/>
                  </a:lnTo>
                  <a:lnTo>
                    <a:pt x="117" y="46"/>
                  </a:lnTo>
                  <a:lnTo>
                    <a:pt x="109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92" y="48"/>
                  </a:lnTo>
                  <a:lnTo>
                    <a:pt x="81" y="48"/>
                  </a:lnTo>
                  <a:lnTo>
                    <a:pt x="75" y="48"/>
                  </a:lnTo>
                  <a:lnTo>
                    <a:pt x="69" y="46"/>
                  </a:lnTo>
                  <a:lnTo>
                    <a:pt x="64" y="45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1" y="43"/>
                  </a:lnTo>
                  <a:lnTo>
                    <a:pt x="45" y="40"/>
                  </a:lnTo>
                  <a:lnTo>
                    <a:pt x="43" y="39"/>
                  </a:lnTo>
                  <a:lnTo>
                    <a:pt x="39" y="39"/>
                  </a:lnTo>
                  <a:lnTo>
                    <a:pt x="37" y="38"/>
                  </a:lnTo>
                  <a:lnTo>
                    <a:pt x="35" y="36"/>
                  </a:lnTo>
                  <a:lnTo>
                    <a:pt x="34" y="35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28" y="29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3657960"/>
              <a:ext cx="179280" cy="2746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5" y="46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5" y="43"/>
                  </a:lnTo>
                  <a:lnTo>
                    <a:pt x="18" y="43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29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24920" y="4345920"/>
              <a:ext cx="353160" cy="11088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437508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39040" y="4019760"/>
              <a:ext cx="119520" cy="372240"/>
            </a:xfrm>
            <a:custGeom>
              <a:avLst/>
              <a:gdLst>
                <a:gd name="textAreaLeft" fmla="*/ 17280 w 119520"/>
                <a:gd name="textAreaRight" fmla="*/ 102240 w 119520"/>
                <a:gd name="textAreaTop" fmla="*/ 17280 h 372240"/>
                <a:gd name="textAreaBottom" fmla="*/ 354960 h 372240"/>
              </a:gdLst>
              <a:ahLst/>
              <a:rect l="textAreaLeft" t="textAreaTop" r="textAreaRight" b="textAreaBottom"/>
              <a:pathLst>
                <a:path w="21600" h="67135">
                  <a:moveTo>
                    <a:pt x="10799" y="0"/>
                  </a:moveTo>
                  <a:arcTo wR="10799" hR="10799" stAng="16200000" swAng="-5400000"/>
                  <a:lnTo>
                    <a:pt x="0" y="56336"/>
                  </a:lnTo>
                  <a:arcTo wR="10799" hR="10799" stAng="10800000" swAng="-5400000"/>
                  <a:lnTo>
                    <a:pt x="10801" y="67135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22560" y="4357800"/>
              <a:ext cx="363600" cy="1213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720" y="2156040"/>
              <a:ext cx="1523160" cy="896760"/>
            </a:xfrm>
            <a:custGeom>
              <a:avLst/>
              <a:gdLst/>
              <a:ahLst/>
              <a:rect l="l" t="t" r="r" b="b"/>
              <a:pathLst>
                <a:path w="306" h="154">
                  <a:moveTo>
                    <a:pt x="289" y="2"/>
                  </a:moveTo>
                  <a:lnTo>
                    <a:pt x="305" y="138"/>
                  </a:lnTo>
                  <a:lnTo>
                    <a:pt x="151" y="153"/>
                  </a:lnTo>
                  <a:lnTo>
                    <a:pt x="0" y="137"/>
                  </a:lnTo>
                  <a:lnTo>
                    <a:pt x="22" y="2"/>
                  </a:lnTo>
                  <a:lnTo>
                    <a:pt x="157" y="0"/>
                  </a:lnTo>
                  <a:lnTo>
                    <a:pt x="289" y="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98120" y="2784600"/>
              <a:ext cx="408600" cy="1623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79" y="5"/>
                  </a:moveTo>
                  <a:lnTo>
                    <a:pt x="79" y="3"/>
                  </a:lnTo>
                  <a:lnTo>
                    <a:pt x="77" y="3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5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52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5" y="18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3" y="14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79" y="9"/>
                  </a:lnTo>
                  <a:lnTo>
                    <a:pt x="81" y="7"/>
                  </a:lnTo>
                  <a:lnTo>
                    <a:pt x="79" y="5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55960" y="2784600"/>
              <a:ext cx="487800" cy="36036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0" y="43"/>
                  </a:moveTo>
                  <a:lnTo>
                    <a:pt x="14" y="61"/>
                  </a:lnTo>
                  <a:lnTo>
                    <a:pt x="97" y="29"/>
                  </a:lnTo>
                  <a:lnTo>
                    <a:pt x="85" y="0"/>
                  </a:lnTo>
                  <a:lnTo>
                    <a:pt x="0" y="4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03720" y="2784600"/>
              <a:ext cx="284400" cy="20988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24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28" y="35"/>
                  </a:lnTo>
                  <a:lnTo>
                    <a:pt x="32" y="35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2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6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15080" y="2673720"/>
              <a:ext cx="239400" cy="1742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5" y="24"/>
                  </a:moveTo>
                  <a:lnTo>
                    <a:pt x="45" y="25"/>
                  </a:lnTo>
                  <a:lnTo>
                    <a:pt x="43" y="25"/>
                  </a:lnTo>
                  <a:lnTo>
                    <a:pt x="41" y="25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5" y="2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4560" y="2680200"/>
              <a:ext cx="5079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308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0352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74560" y="2680200"/>
              <a:ext cx="1443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69880" y="2272320"/>
              <a:ext cx="506880" cy="38412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101" y="65"/>
                  </a:moveTo>
                  <a:lnTo>
                    <a:pt x="88" y="0"/>
                  </a:lnTo>
                  <a:lnTo>
                    <a:pt x="11" y="0"/>
                  </a:lnTo>
                  <a:lnTo>
                    <a:pt x="0" y="65"/>
                  </a:lnTo>
                  <a:lnTo>
                    <a:pt x="101" y="6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4240" y="2272320"/>
              <a:ext cx="388440" cy="16236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0" y="13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3" y="13"/>
                  </a:lnTo>
                  <a:lnTo>
                    <a:pt x="71" y="27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4" y="27"/>
                  </a:lnTo>
                  <a:lnTo>
                    <a:pt x="62" y="27"/>
                  </a:lnTo>
                  <a:lnTo>
                    <a:pt x="61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6" y="27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7"/>
                  </a:lnTo>
                  <a:lnTo>
                    <a:pt x="46" y="27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33040" y="2296080"/>
              <a:ext cx="214560" cy="3603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2" y="61"/>
                  </a:moveTo>
                  <a:lnTo>
                    <a:pt x="34" y="0"/>
                  </a:lnTo>
                  <a:lnTo>
                    <a:pt x="16" y="4"/>
                  </a:lnTo>
                  <a:lnTo>
                    <a:pt x="0" y="4"/>
                  </a:lnTo>
                  <a:lnTo>
                    <a:pt x="25" y="7"/>
                  </a:lnTo>
                  <a:lnTo>
                    <a:pt x="25" y="61"/>
                  </a:lnTo>
                  <a:lnTo>
                    <a:pt x="42" y="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99880" y="1905120"/>
              <a:ext cx="1080720" cy="739440"/>
            </a:xfrm>
            <a:custGeom>
              <a:avLst/>
              <a:gdLst/>
              <a:ahLst/>
              <a:rect l="l" t="t" r="r" b="b"/>
              <a:pathLst>
                <a:path w="217" h="127">
                  <a:moveTo>
                    <a:pt x="160" y="126"/>
                  </a:moveTo>
                  <a:lnTo>
                    <a:pt x="216" y="101"/>
                  </a:lnTo>
                  <a:lnTo>
                    <a:pt x="163" y="104"/>
                  </a:lnTo>
                  <a:lnTo>
                    <a:pt x="208" y="61"/>
                  </a:lnTo>
                  <a:lnTo>
                    <a:pt x="160" y="77"/>
                  </a:lnTo>
                  <a:lnTo>
                    <a:pt x="171" y="58"/>
                  </a:lnTo>
                  <a:lnTo>
                    <a:pt x="152" y="58"/>
                  </a:lnTo>
                  <a:lnTo>
                    <a:pt x="169" y="14"/>
                  </a:lnTo>
                  <a:lnTo>
                    <a:pt x="132" y="45"/>
                  </a:lnTo>
                  <a:lnTo>
                    <a:pt x="124" y="0"/>
                  </a:lnTo>
                  <a:lnTo>
                    <a:pt x="113" y="46"/>
                  </a:lnTo>
                  <a:lnTo>
                    <a:pt x="104" y="26"/>
                  </a:lnTo>
                  <a:lnTo>
                    <a:pt x="96" y="45"/>
                  </a:lnTo>
                  <a:lnTo>
                    <a:pt x="70" y="5"/>
                  </a:lnTo>
                  <a:lnTo>
                    <a:pt x="78" y="49"/>
                  </a:lnTo>
                  <a:lnTo>
                    <a:pt x="35" y="27"/>
                  </a:lnTo>
                  <a:lnTo>
                    <a:pt x="50" y="64"/>
                  </a:lnTo>
                  <a:lnTo>
                    <a:pt x="11" y="58"/>
                  </a:lnTo>
                  <a:lnTo>
                    <a:pt x="50" y="73"/>
                  </a:lnTo>
                  <a:lnTo>
                    <a:pt x="11" y="73"/>
                  </a:lnTo>
                  <a:lnTo>
                    <a:pt x="50" y="104"/>
                  </a:lnTo>
                  <a:lnTo>
                    <a:pt x="0" y="92"/>
                  </a:lnTo>
                  <a:lnTo>
                    <a:pt x="50" y="123"/>
                  </a:lnTo>
                  <a:lnTo>
                    <a:pt x="62" y="58"/>
                  </a:lnTo>
                  <a:lnTo>
                    <a:pt x="104" y="54"/>
                  </a:lnTo>
                  <a:lnTo>
                    <a:pt x="149" y="58"/>
                  </a:lnTo>
                  <a:lnTo>
                    <a:pt x="160" y="123"/>
                  </a:lnTo>
                  <a:lnTo>
                    <a:pt x="160" y="126"/>
                  </a:lnTo>
                </a:path>
              </a:pathLst>
            </a:custGeom>
            <a:solidFill>
              <a:srgbClr val="ffff04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44400" y="2924640"/>
              <a:ext cx="64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1720" y="2982960"/>
              <a:ext cx="363600" cy="30888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7720" y="3111120"/>
              <a:ext cx="438120" cy="12276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6360" y="3635280"/>
              <a:ext cx="333000" cy="1861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3" y="26"/>
                  </a:moveTo>
                  <a:lnTo>
                    <a:pt x="60" y="26"/>
                  </a:lnTo>
                  <a:lnTo>
                    <a:pt x="58" y="27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31"/>
                  </a:lnTo>
                  <a:lnTo>
                    <a:pt x="45" y="31"/>
                  </a:lnTo>
                  <a:lnTo>
                    <a:pt x="42" y="31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3" y="2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0840" y="3268080"/>
              <a:ext cx="183960" cy="43056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9" y="0"/>
                  </a:moveTo>
                  <a:lnTo>
                    <a:pt x="34" y="0"/>
                  </a:lnTo>
                  <a:lnTo>
                    <a:pt x="36" y="62"/>
                  </a:lnTo>
                  <a:lnTo>
                    <a:pt x="0" y="73"/>
                  </a:lnTo>
                  <a:lnTo>
                    <a:pt x="9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71160" y="3657960"/>
              <a:ext cx="208800" cy="34452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6" y="58"/>
                  </a:moveTo>
                  <a:lnTo>
                    <a:pt x="8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7" y="47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5" y="35"/>
                  </a:lnTo>
                  <a:lnTo>
                    <a:pt x="35" y="32"/>
                  </a:lnTo>
                  <a:lnTo>
                    <a:pt x="36" y="29"/>
                  </a:lnTo>
                  <a:lnTo>
                    <a:pt x="39" y="26"/>
                  </a:lnTo>
                  <a:lnTo>
                    <a:pt x="39" y="23"/>
                  </a:lnTo>
                  <a:lnTo>
                    <a:pt x="39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6" y="5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89840" y="305280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84440" y="2982960"/>
              <a:ext cx="134280" cy="314280"/>
            </a:xfrm>
            <a:custGeom>
              <a:avLst/>
              <a:gdLst>
                <a:gd name="textAreaLeft" fmla="*/ 19440 w 134280"/>
                <a:gd name="textAreaRight" fmla="*/ 114840 w 134280"/>
                <a:gd name="textAreaTop" fmla="*/ 19440 h 314280"/>
                <a:gd name="textAreaBottom" fmla="*/ 294840 h 314280"/>
              </a:gdLst>
              <a:ahLst/>
              <a:rect l="textAreaLeft" t="textAreaTop" r="textAreaRight" b="textAreaBottom"/>
              <a:pathLst>
                <a:path w="21600" h="50477">
                  <a:moveTo>
                    <a:pt x="10799" y="0"/>
                  </a:moveTo>
                  <a:arcTo wR="10799" hR="10799" stAng="16200000" swAng="-5400000"/>
                  <a:lnTo>
                    <a:pt x="0" y="39678"/>
                  </a:lnTo>
                  <a:arcTo wR="10799" hR="10799" stAng="10800000" swAng="-5400000"/>
                  <a:lnTo>
                    <a:pt x="10801" y="50477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19360" y="3040920"/>
              <a:ext cx="69840" cy="10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6160" y="3093840"/>
              <a:ext cx="378000" cy="1159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6400" y="3011760"/>
              <a:ext cx="348840" cy="319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07760" y="2982960"/>
              <a:ext cx="124200" cy="319320"/>
            </a:xfrm>
            <a:custGeom>
              <a:avLst/>
              <a:gdLst>
                <a:gd name="textAreaLeft" fmla="*/ 18000 w 124200"/>
                <a:gd name="textAreaRight" fmla="*/ 106200 w 124200"/>
                <a:gd name="textAreaTop" fmla="*/ 18000 h 319320"/>
                <a:gd name="textAreaBottom" fmla="*/ 301320 h 319320"/>
              </a:gdLst>
              <a:ahLst/>
              <a:rect l="textAreaLeft" t="textAreaTop" r="textAreaRight" b="textAreaBottom"/>
              <a:pathLst>
                <a:path w="21600" h="55436">
                  <a:moveTo>
                    <a:pt x="10799" y="0"/>
                  </a:moveTo>
                  <a:arcTo wR="10799" hR="10799" stAng="16200000" swAng="-5400000"/>
                  <a:lnTo>
                    <a:pt x="0" y="44637"/>
                  </a:lnTo>
                  <a:arcTo wR="10799" hR="10799" stAng="10800000" swAng="-5400000"/>
                  <a:lnTo>
                    <a:pt x="10801" y="55436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51080" y="3093840"/>
              <a:ext cx="687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8280" y="2132280"/>
              <a:ext cx="1284840" cy="1159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29600" y="4019760"/>
              <a:ext cx="34416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37760" y="4060800"/>
              <a:ext cx="143280" cy="331560"/>
            </a:xfrm>
            <a:custGeom>
              <a:avLst/>
              <a:gdLst>
                <a:gd name="textAreaLeft" fmla="*/ 20880 w 143280"/>
                <a:gd name="textAreaRight" fmla="*/ 122400 w 143280"/>
                <a:gd name="textAreaTop" fmla="*/ 20880 h 331560"/>
                <a:gd name="textAreaBottom" fmla="*/ 310680 h 331560"/>
              </a:gdLst>
              <a:ahLst/>
              <a:rect l="textAreaLeft" t="textAreaTop" r="textAreaRight" b="textAreaBottom"/>
              <a:pathLst>
                <a:path w="21600" h="49913">
                  <a:moveTo>
                    <a:pt x="10799" y="0"/>
                  </a:moveTo>
                  <a:arcTo wR="10799" hR="10799" stAng="16200000" swAng="-5400000"/>
                  <a:lnTo>
                    <a:pt x="0" y="39114"/>
                  </a:lnTo>
                  <a:arcTo wR="10799" hR="10799" stAng="10800000" swAng="-5400000"/>
                  <a:lnTo>
                    <a:pt x="10801" y="49913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27960" y="4019760"/>
              <a:ext cx="35784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74800" y="2859840"/>
              <a:ext cx="1672200" cy="1252080"/>
            </a:xfrm>
            <a:custGeom>
              <a:avLst/>
              <a:gdLst/>
              <a:ahLst/>
              <a:rect l="l" t="t" r="r" b="b"/>
              <a:pathLst>
                <a:path w="336" h="215">
                  <a:moveTo>
                    <a:pt x="277" y="20"/>
                  </a:moveTo>
                  <a:lnTo>
                    <a:pt x="250" y="23"/>
                  </a:lnTo>
                  <a:lnTo>
                    <a:pt x="169" y="26"/>
                  </a:lnTo>
                  <a:lnTo>
                    <a:pt x="75" y="21"/>
                  </a:lnTo>
                  <a:lnTo>
                    <a:pt x="43" y="18"/>
                  </a:lnTo>
                  <a:lnTo>
                    <a:pt x="35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6" y="184"/>
                  </a:lnTo>
                  <a:lnTo>
                    <a:pt x="16" y="187"/>
                  </a:lnTo>
                  <a:lnTo>
                    <a:pt x="18" y="190"/>
                  </a:lnTo>
                  <a:lnTo>
                    <a:pt x="19" y="193"/>
                  </a:lnTo>
                  <a:lnTo>
                    <a:pt x="22" y="196"/>
                  </a:lnTo>
                  <a:lnTo>
                    <a:pt x="24" y="199"/>
                  </a:lnTo>
                  <a:lnTo>
                    <a:pt x="28" y="202"/>
                  </a:lnTo>
                  <a:lnTo>
                    <a:pt x="33" y="202"/>
                  </a:lnTo>
                  <a:lnTo>
                    <a:pt x="39" y="203"/>
                  </a:lnTo>
                  <a:lnTo>
                    <a:pt x="44" y="203"/>
                  </a:lnTo>
                  <a:lnTo>
                    <a:pt x="46" y="205"/>
                  </a:lnTo>
                  <a:lnTo>
                    <a:pt x="87" y="208"/>
                  </a:lnTo>
                  <a:lnTo>
                    <a:pt x="169" y="214"/>
                  </a:lnTo>
                  <a:lnTo>
                    <a:pt x="246" y="208"/>
                  </a:lnTo>
                  <a:lnTo>
                    <a:pt x="297" y="203"/>
                  </a:lnTo>
                  <a:lnTo>
                    <a:pt x="301" y="203"/>
                  </a:lnTo>
                  <a:lnTo>
                    <a:pt x="306" y="203"/>
                  </a:lnTo>
                  <a:lnTo>
                    <a:pt x="310" y="200"/>
                  </a:lnTo>
                  <a:lnTo>
                    <a:pt x="311" y="200"/>
                  </a:lnTo>
                  <a:lnTo>
                    <a:pt x="316" y="197"/>
                  </a:lnTo>
                  <a:lnTo>
                    <a:pt x="319" y="195"/>
                  </a:lnTo>
                  <a:lnTo>
                    <a:pt x="321" y="192"/>
                  </a:lnTo>
                  <a:lnTo>
                    <a:pt x="321" y="187"/>
                  </a:lnTo>
                  <a:lnTo>
                    <a:pt x="323" y="184"/>
                  </a:lnTo>
                  <a:lnTo>
                    <a:pt x="335" y="32"/>
                  </a:lnTo>
                  <a:lnTo>
                    <a:pt x="335" y="30"/>
                  </a:lnTo>
                  <a:lnTo>
                    <a:pt x="335" y="29"/>
                  </a:lnTo>
                  <a:lnTo>
                    <a:pt x="335" y="27"/>
                  </a:lnTo>
                  <a:lnTo>
                    <a:pt x="335" y="20"/>
                  </a:lnTo>
                  <a:lnTo>
                    <a:pt x="332" y="11"/>
                  </a:lnTo>
                  <a:lnTo>
                    <a:pt x="328" y="5"/>
                  </a:lnTo>
                  <a:lnTo>
                    <a:pt x="324" y="2"/>
                  </a:lnTo>
                  <a:lnTo>
                    <a:pt x="318" y="1"/>
                  </a:lnTo>
                  <a:lnTo>
                    <a:pt x="319" y="10"/>
                  </a:lnTo>
                  <a:lnTo>
                    <a:pt x="318" y="13"/>
                  </a:lnTo>
                  <a:lnTo>
                    <a:pt x="314" y="13"/>
                  </a:lnTo>
                  <a:lnTo>
                    <a:pt x="308" y="14"/>
                  </a:lnTo>
                  <a:lnTo>
                    <a:pt x="303" y="16"/>
                  </a:lnTo>
                  <a:lnTo>
                    <a:pt x="297" y="17"/>
                  </a:lnTo>
                  <a:lnTo>
                    <a:pt x="277" y="2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672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73520" y="2115000"/>
              <a:ext cx="135468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73520" y="2115000"/>
              <a:ext cx="134460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0" y="0"/>
                  </a:moveTo>
                  <a:arcTo wR="10800" hR="10800" stAng="-5425370" swAng="5425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0" y="0"/>
                  </a:moveTo>
                  <a:arcTo wR="10800" hR="10800" stAng="-5425370" swAng="54253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8320" y="298296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11440" y="3046320"/>
              <a:ext cx="651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55960" y="307008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31560" y="3536280"/>
              <a:ext cx="338760" cy="19800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6080" y="360648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12480" y="2335680"/>
              <a:ext cx="1070280" cy="571680"/>
            </a:xfrm>
            <a:custGeom>
              <a:avLst/>
              <a:gdLst/>
              <a:ahLst/>
              <a:rect l="l" t="t" r="r" b="b"/>
              <a:pathLst>
                <a:path w="215" h="98">
                  <a:moveTo>
                    <a:pt x="189" y="1"/>
                  </a:moveTo>
                  <a:lnTo>
                    <a:pt x="180" y="2"/>
                  </a:lnTo>
                  <a:lnTo>
                    <a:pt x="168" y="2"/>
                  </a:lnTo>
                  <a:lnTo>
                    <a:pt x="153" y="4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27" y="7"/>
                  </a:lnTo>
                  <a:lnTo>
                    <a:pt x="115" y="7"/>
                  </a:lnTo>
                  <a:lnTo>
                    <a:pt x="103" y="7"/>
                  </a:lnTo>
                  <a:lnTo>
                    <a:pt x="94" y="7"/>
                  </a:lnTo>
                  <a:lnTo>
                    <a:pt x="86" y="7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6" y="89"/>
                  </a:lnTo>
                  <a:lnTo>
                    <a:pt x="15" y="91"/>
                  </a:lnTo>
                  <a:lnTo>
                    <a:pt x="28" y="92"/>
                  </a:lnTo>
                  <a:lnTo>
                    <a:pt x="38" y="94"/>
                  </a:lnTo>
                  <a:lnTo>
                    <a:pt x="51" y="95"/>
                  </a:lnTo>
                  <a:lnTo>
                    <a:pt x="63" y="95"/>
                  </a:lnTo>
                  <a:lnTo>
                    <a:pt x="77" y="97"/>
                  </a:lnTo>
                  <a:lnTo>
                    <a:pt x="88" y="97"/>
                  </a:lnTo>
                  <a:lnTo>
                    <a:pt x="102" y="97"/>
                  </a:lnTo>
                  <a:lnTo>
                    <a:pt x="116" y="97"/>
                  </a:lnTo>
                  <a:lnTo>
                    <a:pt x="127" y="97"/>
                  </a:lnTo>
                  <a:lnTo>
                    <a:pt x="140" y="97"/>
                  </a:lnTo>
                  <a:lnTo>
                    <a:pt x="150" y="95"/>
                  </a:lnTo>
                  <a:lnTo>
                    <a:pt x="159" y="95"/>
                  </a:lnTo>
                  <a:lnTo>
                    <a:pt x="169" y="94"/>
                  </a:lnTo>
                  <a:lnTo>
                    <a:pt x="181" y="94"/>
                  </a:lnTo>
                  <a:lnTo>
                    <a:pt x="189" y="92"/>
                  </a:lnTo>
                  <a:lnTo>
                    <a:pt x="199" y="92"/>
                  </a:lnTo>
                  <a:lnTo>
                    <a:pt x="206" y="91"/>
                  </a:lnTo>
                  <a:lnTo>
                    <a:pt x="211" y="89"/>
                  </a:lnTo>
                  <a:lnTo>
                    <a:pt x="212" y="85"/>
                  </a:lnTo>
                  <a:lnTo>
                    <a:pt x="214" y="82"/>
                  </a:lnTo>
                  <a:lnTo>
                    <a:pt x="214" y="74"/>
                  </a:lnTo>
                  <a:lnTo>
                    <a:pt x="214" y="47"/>
                  </a:lnTo>
                  <a:lnTo>
                    <a:pt x="214" y="32"/>
                  </a:lnTo>
                  <a:lnTo>
                    <a:pt x="214" y="9"/>
                  </a:lnTo>
                  <a:lnTo>
                    <a:pt x="212" y="4"/>
                  </a:lnTo>
                  <a:lnTo>
                    <a:pt x="210" y="1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89" y="1"/>
                  </a:lnTo>
                  <a:lnTo>
                    <a:pt x="189" y="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3040" y="3239280"/>
              <a:ext cx="6408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42880" y="3471480"/>
              <a:ext cx="5976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18040" y="3681720"/>
              <a:ext cx="74520" cy="1159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18080" y="3239280"/>
              <a:ext cx="6516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3920" y="3471480"/>
              <a:ext cx="6408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2920" y="3681720"/>
              <a:ext cx="65160" cy="1108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43320" y="3954960"/>
              <a:ext cx="58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9384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2680" y="3099240"/>
              <a:ext cx="1200240" cy="862560"/>
            </a:xfrm>
            <a:custGeom>
              <a:avLst/>
              <a:gdLst/>
              <a:ahLst/>
              <a:rect l="l" t="t" r="r" b="b"/>
              <a:pathLst>
                <a:path w="241" h="148">
                  <a:moveTo>
                    <a:pt x="193" y="4"/>
                  </a:moveTo>
                  <a:lnTo>
                    <a:pt x="179" y="5"/>
                  </a:lnTo>
                  <a:lnTo>
                    <a:pt x="121" y="5"/>
                  </a:lnTo>
                  <a:lnTo>
                    <a:pt x="67" y="5"/>
                  </a:lnTo>
                  <a:lnTo>
                    <a:pt x="50" y="5"/>
                  </a:lnTo>
                  <a:lnTo>
                    <a:pt x="40" y="4"/>
                  </a:lnTo>
                  <a:lnTo>
                    <a:pt x="28" y="2"/>
                  </a:lnTo>
                  <a:lnTo>
                    <a:pt x="18" y="1"/>
                  </a:lnTo>
                  <a:lnTo>
                    <a:pt x="9" y="1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8" y="135"/>
                  </a:lnTo>
                  <a:lnTo>
                    <a:pt x="22" y="138"/>
                  </a:lnTo>
                  <a:lnTo>
                    <a:pt x="25" y="139"/>
                  </a:lnTo>
                  <a:lnTo>
                    <a:pt x="29" y="139"/>
                  </a:lnTo>
                  <a:lnTo>
                    <a:pt x="35" y="141"/>
                  </a:lnTo>
                  <a:lnTo>
                    <a:pt x="63" y="142"/>
                  </a:lnTo>
                  <a:lnTo>
                    <a:pt x="98" y="145"/>
                  </a:lnTo>
                  <a:lnTo>
                    <a:pt x="120" y="147"/>
                  </a:lnTo>
                  <a:lnTo>
                    <a:pt x="146" y="147"/>
                  </a:lnTo>
                  <a:lnTo>
                    <a:pt x="176" y="144"/>
                  </a:lnTo>
                  <a:lnTo>
                    <a:pt x="210" y="139"/>
                  </a:lnTo>
                  <a:lnTo>
                    <a:pt x="214" y="139"/>
                  </a:lnTo>
                  <a:lnTo>
                    <a:pt x="219" y="138"/>
                  </a:lnTo>
                  <a:lnTo>
                    <a:pt x="223" y="136"/>
                  </a:lnTo>
                  <a:lnTo>
                    <a:pt x="225" y="134"/>
                  </a:lnTo>
                  <a:lnTo>
                    <a:pt x="228" y="131"/>
                  </a:lnTo>
                  <a:lnTo>
                    <a:pt x="229" y="126"/>
                  </a:lnTo>
                  <a:lnTo>
                    <a:pt x="238" y="17"/>
                  </a:lnTo>
                  <a:lnTo>
                    <a:pt x="240" y="8"/>
                  </a:lnTo>
                  <a:lnTo>
                    <a:pt x="240" y="2"/>
                  </a:lnTo>
                  <a:lnTo>
                    <a:pt x="237" y="0"/>
                  </a:lnTo>
                  <a:lnTo>
                    <a:pt x="232" y="1"/>
                  </a:lnTo>
                  <a:lnTo>
                    <a:pt x="224" y="2"/>
                  </a:lnTo>
                  <a:lnTo>
                    <a:pt x="214" y="2"/>
                  </a:lnTo>
                  <a:lnTo>
                    <a:pt x="207" y="4"/>
                  </a:lnTo>
                  <a:lnTo>
                    <a:pt x="193" y="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43360" y="2214000"/>
              <a:ext cx="6876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7480" y="4404240"/>
              <a:ext cx="597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88080" y="2120040"/>
              <a:ext cx="395640" cy="203400"/>
              <a:chOff x="3988080" y="2120040"/>
              <a:chExt cx="395640" cy="203400"/>
            </a:xfrm>
          </p:grpSpPr>
          <p:sp>
            <p:nvSpPr>
              <p:cNvPr id="389" name=""/>
              <p:cNvSpPr/>
              <p:nvPr/>
            </p:nvSpPr>
            <p:spPr>
              <a:xfrm flipH="1" flipV="1">
                <a:off x="4150800" y="2120040"/>
                <a:ext cx="232920" cy="20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88080" y="2120400"/>
                <a:ext cx="18792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92796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2640" y="2441160"/>
              <a:ext cx="2484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505040" y="2120040"/>
              <a:ext cx="387000" cy="214200"/>
              <a:chOff x="4505040" y="2120040"/>
              <a:chExt cx="387000" cy="214200"/>
            </a:xfrm>
          </p:grpSpPr>
          <p:sp>
            <p:nvSpPr>
              <p:cNvPr id="394" name=""/>
              <p:cNvSpPr/>
              <p:nvPr/>
            </p:nvSpPr>
            <p:spPr>
              <a:xfrm flipH="1" flipV="1">
                <a:off x="4669200" y="2120040"/>
                <a:ext cx="22284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505040" y="2120400"/>
                <a:ext cx="20376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267520" y="459576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0568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05680" y="2441160"/>
              <a:ext cx="2538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65160" y="2673720"/>
              <a:ext cx="113760" cy="174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13"/>
                  </a:moveTo>
                  <a:lnTo>
                    <a:pt x="0" y="0"/>
                  </a:lnTo>
                  <a:lnTo>
                    <a:pt x="12" y="29"/>
                  </a:lnTo>
                  <a:lnTo>
                    <a:pt x="20" y="25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1680" y="2656440"/>
              <a:ext cx="125280" cy="168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14"/>
                  </a:moveTo>
                  <a:lnTo>
                    <a:pt x="0" y="0"/>
                  </a:lnTo>
                  <a:lnTo>
                    <a:pt x="14" y="28"/>
                  </a:lnTo>
                  <a:lnTo>
                    <a:pt x="22" y="24"/>
                  </a:lnTo>
                  <a:lnTo>
                    <a:pt x="24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27960" y="3192840"/>
              <a:ext cx="969840" cy="739440"/>
            </a:xfrm>
            <a:custGeom>
              <a:avLst/>
              <a:gdLst/>
              <a:ahLst/>
              <a:rect l="l" t="t" r="r" b="b"/>
              <a:pathLst>
                <a:path w="195" h="127">
                  <a:moveTo>
                    <a:pt x="194" y="85"/>
                  </a:moveTo>
                  <a:lnTo>
                    <a:pt x="178" y="85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40" y="99"/>
                  </a:lnTo>
                  <a:lnTo>
                    <a:pt x="132" y="39"/>
                  </a:lnTo>
                  <a:lnTo>
                    <a:pt x="120" y="39"/>
                  </a:lnTo>
                  <a:lnTo>
                    <a:pt x="109" y="84"/>
                  </a:lnTo>
                  <a:lnTo>
                    <a:pt x="88" y="84"/>
                  </a:lnTo>
                  <a:lnTo>
                    <a:pt x="69" y="0"/>
                  </a:lnTo>
                  <a:lnTo>
                    <a:pt x="53" y="0"/>
                  </a:lnTo>
                  <a:lnTo>
                    <a:pt x="42" y="99"/>
                  </a:lnTo>
                  <a:lnTo>
                    <a:pt x="32" y="39"/>
                  </a:lnTo>
                  <a:lnTo>
                    <a:pt x="21" y="39"/>
                  </a:lnTo>
                  <a:lnTo>
                    <a:pt x="12" y="85"/>
                  </a:lnTo>
                  <a:lnTo>
                    <a:pt x="0" y="85"/>
                  </a:lnTo>
                  <a:lnTo>
                    <a:pt x="0" y="98"/>
                  </a:lnTo>
                  <a:lnTo>
                    <a:pt x="21" y="98"/>
                  </a:lnTo>
                  <a:lnTo>
                    <a:pt x="28" y="60"/>
                  </a:lnTo>
                  <a:lnTo>
                    <a:pt x="38" y="126"/>
                  </a:lnTo>
                  <a:lnTo>
                    <a:pt x="48" y="126"/>
                  </a:lnTo>
                  <a:lnTo>
                    <a:pt x="62" y="23"/>
                  </a:lnTo>
                  <a:lnTo>
                    <a:pt x="79" y="98"/>
                  </a:lnTo>
                  <a:lnTo>
                    <a:pt x="115" y="98"/>
                  </a:lnTo>
                  <a:lnTo>
                    <a:pt x="124" y="63"/>
                  </a:lnTo>
                  <a:lnTo>
                    <a:pt x="133" y="126"/>
                  </a:lnTo>
                  <a:lnTo>
                    <a:pt x="149" y="126"/>
                  </a:lnTo>
                  <a:lnTo>
                    <a:pt x="160" y="27"/>
                  </a:lnTo>
                  <a:lnTo>
                    <a:pt x="169" y="98"/>
                  </a:lnTo>
                  <a:lnTo>
                    <a:pt x="194" y="98"/>
                  </a:lnTo>
                  <a:lnTo>
                    <a:pt x="194" y="85"/>
                  </a:lnTo>
                </a:path>
              </a:pathLst>
            </a:custGeom>
            <a:gradFill rotWithShape="0">
              <a:gsLst>
                <a:gs pos="0">
                  <a:srgbClr val="8901f3"/>
                </a:gs>
                <a:gs pos="100000">
                  <a:srgbClr val="b766f6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228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5105520" cy="3124080"/>
            <a:chOff x="0" y="0"/>
            <a:chExt cx="5105520" cy="312408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88920" y="1126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ff"/>
                  </a:solidFill>
                  <a:latin typeface="Tahoma"/>
                </a:rPr>
                <a:t>Mercados Globaliz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324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105520" y="57240"/>
            <a:ext cx="40384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371600" y="762120"/>
            <a:ext cx="7086600" cy="5649840"/>
            <a:chOff x="1371600" y="762120"/>
            <a:chExt cx="7086600" cy="5649840"/>
          </a:xfrm>
        </p:grpSpPr>
        <p:sp>
          <p:nvSpPr>
            <p:cNvPr id="411" name=""/>
            <p:cNvSpPr/>
            <p:nvPr/>
          </p:nvSpPr>
          <p:spPr>
            <a:xfrm>
              <a:off x="1371600" y="762120"/>
              <a:ext cx="7086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ITC Avant Garde Gothic"/>
                </a:rPr>
                <a:t>Administración 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1447920" y="1295640"/>
              <a:ext cx="6553080" cy="511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562720" y="1905120"/>
              <a:ext cx="9126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 rot="19444800">
              <a:off x="3124080" y="320004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400" spc="-1" strike="noStrike">
                  <a:solidFill>
                    <a:srgbClr val="000000"/>
                  </a:solidFill>
                  <a:latin typeface="Tahoma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¿Qué tan alto y qué tan lejos queremos llegar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6760" y="1981080"/>
            <a:ext cx="152424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03920" y="28954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19810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0800" y="4114800"/>
            <a:ext cx="44575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ormul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1814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56386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Tác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8240" y="1676520"/>
            <a:ext cx="762120" cy="278136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Diagnóstic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9" idx="4"/>
            <a:endCxn id="100" idx="0"/>
          </p:cNvCxnSpPr>
          <p:nvPr/>
        </p:nvCxnSpPr>
        <p:spPr>
          <a:xfrm>
            <a:off x="5168520" y="2514600"/>
            <a:ext cx="13978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7" name=""/>
          <p:cNvCxnSpPr>
            <a:stCxn id="101" idx="4"/>
            <a:endCxn id="100" idx="0"/>
          </p:cNvCxnSpPr>
          <p:nvPr/>
        </p:nvCxnSpPr>
        <p:spPr>
          <a:xfrm flipH="1">
            <a:off x="6565680" y="2514600"/>
            <a:ext cx="151200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" name=""/>
          <p:cNvCxnSpPr>
            <a:stCxn id="100" idx="4"/>
            <a:endCxn id="102" idx="0"/>
          </p:cNvCxnSpPr>
          <p:nvPr/>
        </p:nvCxnSpPr>
        <p:spPr>
          <a:xfrm flipH="1">
            <a:off x="6559200" y="3428640"/>
            <a:ext cx="720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9" name=""/>
          <p:cNvCxnSpPr>
            <a:stCxn id="102" idx="4"/>
            <a:endCxn id="103" idx="0"/>
          </p:cNvCxnSpPr>
          <p:nvPr/>
        </p:nvCxnSpPr>
        <p:spPr>
          <a:xfrm flipH="1">
            <a:off x="5219280" y="4952520"/>
            <a:ext cx="134064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0" name=""/>
          <p:cNvCxnSpPr>
            <a:stCxn id="103" idx="6"/>
            <a:endCxn id="104" idx="0"/>
          </p:cNvCxnSpPr>
          <p:nvPr/>
        </p:nvCxnSpPr>
        <p:spPr>
          <a:xfrm>
            <a:off x="6400440" y="5600520"/>
            <a:ext cx="1562760" cy="3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17200" y="16002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ahoma"/>
              </a:rPr>
              <a:t>FÓRMULA DE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 a la estrategia y su ejecución en el centro de la organiz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0384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a la organización montada, alineada y enfocada en la estrategia haciendo que este proceso sea dinámic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Aquellas empresas que pueden traspasar  su estrategia a sus sistemas de medición son mucho mas capaces de ejecutar su estrategia por que pueden comunicar sus objetivos y sus met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Esta comunicación hace que los directivos y empleados se centren en los inductores críticos, permitiéndoles alinear las inversiones, las iniciativas y las acciones con la consecución de los objetivos estratégic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obert S Kaplan y David P. Nor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(The Balanced Scorecard 19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e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e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La brecha estratég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8200" y="743040"/>
            <a:ext cx="8450280" cy="3512520"/>
            <a:chOff x="538200" y="743040"/>
            <a:chExt cx="8450280" cy="35125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rcRect l="0" t="0" r="3214" b="0"/>
            <a:stretch/>
          </p:blipFill>
          <p:spPr>
            <a:xfrm>
              <a:off x="538200" y="761760"/>
              <a:ext cx="8373960" cy="34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58080" y="2576160"/>
              <a:ext cx="20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jecu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920" y="25714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strateg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251160" y="1888920"/>
              <a:ext cx="27338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 Black"/>
                </a:rPr>
                <a:t>Brecha Estratégica</a:t>
              </a:r>
              <a:endPara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824280" y="743040"/>
              <a:ext cx="190512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665280" y="3733920"/>
            <a:ext cx="81169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n muchas empresas existen metas de largo plazo por un lado y por otro lado presupuestos detallados a corto plazo, así como planes anuales …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 u="sng">
                <a:solidFill>
                  <a:srgbClr val="ff3300"/>
                </a:solidFill>
                <a:uFillTx/>
                <a:latin typeface="Tahoma"/>
              </a:rPr>
              <a:t>sin nada entre ellos para enlazarl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l largo plazo no empieza en el año cinco del plan estratégico actual.   </a:t>
            </a:r>
            <a:r>
              <a:rPr b="0" i="1" lang="es-PE" sz="3000" spc="-1" strike="noStrike">
                <a:solidFill>
                  <a:srgbClr val="ff3300"/>
                </a:solidFill>
                <a:latin typeface="Tahoma"/>
              </a:rPr>
              <a:t>¡Empieza justo ahora!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cc00"/>
                </a:solidFill>
                <a:latin typeface="Tahoma"/>
              </a:rPr>
              <a:t>¿Por que la Brecha estratégica persist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01520" y="1079640"/>
            <a:ext cx="40644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8367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82744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684440"/>
            <a:ext cx="1687680" cy="7617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2760" y="26035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88400" y="4508640"/>
            <a:ext cx="2471400" cy="1827360"/>
            <a:chOff x="788400" y="4508640"/>
            <a:chExt cx="2471400" cy="1827360"/>
          </a:xfrm>
        </p:grpSpPr>
        <p:sp>
          <p:nvSpPr>
            <p:cNvPr id="134" name=""/>
            <p:cNvSpPr/>
            <p:nvPr/>
          </p:nvSpPr>
          <p:spPr>
            <a:xfrm>
              <a:off x="788400" y="5511960"/>
              <a:ext cx="2471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Operac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 * AB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0640" y="5111640"/>
              <a:ext cx="200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Capi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A * E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224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sostien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endCxn id="136" idx="6"/>
          </p:cNvCxnSpPr>
          <p:nvPr/>
        </p:nvCxnSpPr>
        <p:spPr>
          <a:xfrm flipH="1">
            <a:off x="2709000" y="4184280"/>
            <a:ext cx="1483560" cy="55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724140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*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164360" y="3200400"/>
            <a:ext cx="1662120" cy="368280"/>
            <a:chOff x="7164360" y="3200400"/>
            <a:chExt cx="1662120" cy="368280"/>
          </a:xfrm>
        </p:grpSpPr>
        <p:sp>
          <p:nvSpPr>
            <p:cNvPr id="140" name=""/>
            <p:cNvSpPr/>
            <p:nvPr/>
          </p:nvSpPr>
          <p:spPr>
            <a:xfrm>
              <a:off x="7164360" y="3200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K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24880" y="3274920"/>
              <a:ext cx="110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OBJE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87200" y="13842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4" idx="6"/>
            <a:endCxn id="142" idx="1"/>
          </p:cNvCxnSpPr>
          <p:nvPr/>
        </p:nvCxnSpPr>
        <p:spPr>
          <a:xfrm flipV="1">
            <a:off x="7110000" y="1568160"/>
            <a:ext cx="27540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78560" y="17146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prendiz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4" idx="6"/>
            <a:endCxn id="145" idx="1"/>
          </p:cNvCxnSpPr>
          <p:nvPr/>
        </p:nvCxnSpPr>
        <p:spPr>
          <a:xfrm flipV="1">
            <a:off x="7110000" y="1898280"/>
            <a:ext cx="26892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7367760" y="2070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4" idx="6"/>
            <a:endCxn id="147" idx="1"/>
          </p:cNvCxnSpPr>
          <p:nvPr/>
        </p:nvCxnSpPr>
        <p:spPr>
          <a:xfrm>
            <a:off x="7110000" y="2070000"/>
            <a:ext cx="25812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7378560" y="2389320"/>
            <a:ext cx="11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inanz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6"/>
            <a:endCxn id="149" idx="1"/>
          </p:cNvCxnSpPr>
          <p:nvPr/>
        </p:nvCxnSpPr>
        <p:spPr>
          <a:xfrm>
            <a:off x="7110000" y="2070000"/>
            <a:ext cx="2689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492880" y="184140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erspec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endCxn id="144" idx="2"/>
          </p:cNvCxnSpPr>
          <p:nvPr/>
        </p:nvCxnSpPr>
        <p:spPr>
          <a:xfrm flipV="1">
            <a:off x="5016240" y="2069280"/>
            <a:ext cx="477000" cy="159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5494320" y="2451240"/>
            <a:ext cx="161784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3"/>
            <a:endCxn id="152" idx="2"/>
          </p:cNvCxnSpPr>
          <p:nvPr/>
        </p:nvCxnSpPr>
        <p:spPr>
          <a:xfrm flipV="1">
            <a:off x="5014800" y="2679120"/>
            <a:ext cx="480240" cy="952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519880" y="30988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"/>
          <p:cNvCxnSpPr>
            <a:endCxn id="155" idx="2"/>
          </p:cNvCxnSpPr>
          <p:nvPr/>
        </p:nvCxnSpPr>
        <p:spPr>
          <a:xfrm flipV="1">
            <a:off x="5016600" y="3327120"/>
            <a:ext cx="504000" cy="334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7" name=""/>
          <p:cNvCxnSpPr/>
          <p:nvPr/>
        </p:nvCxnSpPr>
        <p:spPr>
          <a:xfrm>
            <a:off x="4978080" y="3669840"/>
            <a:ext cx="532440" cy="258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548320" y="36892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ici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045120" y="4508640"/>
            <a:ext cx="1617840" cy="1753200"/>
            <a:chOff x="6045120" y="4508640"/>
            <a:chExt cx="1617840" cy="1753200"/>
          </a:xfrm>
        </p:grpSpPr>
        <p:sp>
          <p:nvSpPr>
            <p:cNvPr id="160" name=""/>
            <p:cNvSpPr/>
            <p:nvPr/>
          </p:nvSpPr>
          <p:spPr>
            <a:xfrm>
              <a:off x="6338880" y="5194440"/>
              <a:ext cx="1052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i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Sig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4512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oya e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62" name=""/>
          <p:cNvCxnSpPr>
            <a:endCxn id="161" idx="2"/>
          </p:cNvCxnSpPr>
          <p:nvPr/>
        </p:nvCxnSpPr>
        <p:spPr>
          <a:xfrm>
            <a:off x="4192560" y="4184280"/>
            <a:ext cx="18532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3406680" y="4184280"/>
            <a:ext cx="1876680" cy="2244240"/>
            <a:chOff x="3406680" y="4184280"/>
            <a:chExt cx="1876680" cy="2244240"/>
          </a:xfrm>
        </p:grpSpPr>
        <p:cxnSp>
          <p:nvCxnSpPr>
            <p:cNvPr id="164" name=""/>
            <p:cNvCxnSpPr>
              <a:endCxn id="165" idx="0"/>
            </p:cNvCxnSpPr>
            <p:nvPr/>
          </p:nvCxnSpPr>
          <p:spPr>
            <a:xfrm>
              <a:off x="4192560" y="4184280"/>
              <a:ext cx="1310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3406680" y="5117760"/>
              <a:ext cx="1876680" cy="1310760"/>
            </a:xfrm>
            <a:prstGeom prst="rect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esupue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onóst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Análisis y Repor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4560" y="4508280"/>
              <a:ext cx="1734840" cy="456840"/>
            </a:xfrm>
            <a:prstGeom prst="ellipse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alanca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16040" y="37465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4440" y="35179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4160" y="3319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0400" y="2976840"/>
            <a:ext cx="2346480" cy="1310760"/>
            <a:chOff x="2660400" y="2976840"/>
            <a:chExt cx="2346480" cy="1310760"/>
          </a:xfrm>
        </p:grpSpPr>
        <p:cxnSp>
          <p:nvCxnSpPr>
            <p:cNvPr id="171" name=""/>
            <p:cNvCxnSpPr>
              <a:stCxn id="132" idx="6"/>
            </p:cNvCxnSpPr>
            <p:nvPr/>
          </p:nvCxnSpPr>
          <p:spPr>
            <a:xfrm>
              <a:off x="2660400" y="2984040"/>
              <a:ext cx="670680" cy="67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72" name=""/>
            <p:cNvCxnSpPr>
              <a:stCxn id="168" idx="6"/>
            </p:cNvCxnSpPr>
            <p:nvPr/>
          </p:nvCxnSpPr>
          <p:spPr>
            <a:xfrm flipV="1">
              <a:off x="2692080" y="3660120"/>
              <a:ext cx="639000" cy="23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54" name=""/>
            <p:cNvSpPr/>
            <p:nvPr/>
          </p:nvSpPr>
          <p:spPr>
            <a:xfrm>
              <a:off x="3378240" y="2976840"/>
              <a:ext cx="1628640" cy="131076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jecución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30240" y="1439280"/>
            <a:ext cx="2275200" cy="1067400"/>
            <a:chOff x="2730240" y="1439280"/>
            <a:chExt cx="2275200" cy="1067400"/>
          </a:xfrm>
        </p:grpSpPr>
        <p:cxnSp>
          <p:nvCxnSpPr>
            <p:cNvPr id="174" name=""/>
            <p:cNvCxnSpPr>
              <a:stCxn id="131" idx="6"/>
              <a:endCxn id="175" idx="1"/>
            </p:cNvCxnSpPr>
            <p:nvPr/>
          </p:nvCxnSpPr>
          <p:spPr>
            <a:xfrm flipV="1">
              <a:off x="2730240" y="1972800"/>
              <a:ext cx="640440" cy="92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75" name=""/>
            <p:cNvSpPr/>
            <p:nvPr/>
          </p:nvSpPr>
          <p:spPr>
            <a:xfrm>
              <a:off x="3378240" y="1439280"/>
              <a:ext cx="1627200" cy="106740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ación Estratég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78240" y="2603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0840" y="2475720"/>
            <a:ext cx="16002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800" y="923760"/>
            <a:ext cx="6477120" cy="34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OMÍA DEL CONOCIMIENTO – ACTIVOS INTANGIB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7:08:53Z</dcterms:created>
  <dc:creator>htalavera</dc:creator>
  <dc:description/>
  <dc:language>en-US</dc:language>
  <cp:lastModifiedBy>PCLARCE</cp:lastModifiedBy>
  <dcterms:modified xsi:type="dcterms:W3CDTF">2004-11-25T21:34:34Z</dcterms:modified>
  <cp:revision>187</cp:revision>
  <dc:subject/>
  <dc:title>“CPM” Corporate Performance Management </dc:title>
</cp:coreProperties>
</file>